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8AFD-5833-4468-B316-7F921BB5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C712-4423-407B-8328-E2FD3BB6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0DA9-254D-420F-A096-597110A52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12F9-BD54-4C36-9F50-52B9F504D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2832-DBE5-46E7-8D65-16A42F135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4FCF-5CCC-4F59-91D6-09D7B7DE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3426-99F6-453E-9025-C1B55808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C0BD-7746-4781-8525-2BEB97CA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6F56-7E68-465D-BFC2-30229D02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A4C0-5E21-4254-AB25-B8177D49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B2BF-85BF-405D-B293-F6CEABF7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BA01-F3C2-44CA-B8B8-3739DEC0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5D53-DE71-481F-B496-374A8273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E17D-DB52-4346-96F7-FD1C85C3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AC3E-FB14-4A12-87B1-AC1971A0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A4D6-F4E1-47FC-A949-36065357D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833A-5640-4E79-AC91-CF204FD9C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2683-F547-4EC3-8022-158B29AC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38D1-BD25-4ED3-8A65-52D622B4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4786-D4B0-419B-B377-5F1964BC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7851-7A29-45BB-A848-5AFBC234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48B9-05E6-4BA5-83E1-13D73158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E81C-3897-4F19-AB62-B6DE1FBB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379E-F623-4776-AF81-4F47576A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1F18-6632-4BA9-9CEC-7924CED07C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C434-BC58-41D7-BBE9-98C92E62B6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9.png"/><Relationship Id="rId22" Type="http://schemas.openxmlformats.org/officeDocument/2006/relationships/image" Target="../media/image20.png"/><Relationship Id="rId2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OOD BORNE DISEAS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erator –Dr B S Gar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enter - Dr Gaurij H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Pathogenesis and Transmissio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oculum / siz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 infective dose -Can be as small as 10-100 bacterial cysts for Shigella , EHEC , Giardia, E. histolytic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 10^ 5-10^ 8 for Vibrio cholera, variable for salmonel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imals / humans harbouring infectio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hed in feces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taminate water , fruits , vegetables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adequate cooking / improper storage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infe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rm temperature(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0-50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gree cent.)-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ltiplication of pathoge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Some common bacterial food poison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28600" y="1066680"/>
          <a:ext cx="8763120" cy="4454640"/>
        </p:xfrm>
        <a:graphic>
          <a:graphicData uri="http://schemas.openxmlformats.org/drawingml/2006/table">
            <a:tbl>
              <a:tblPr/>
              <a:tblGrid>
                <a:gridCol w="2133720"/>
                <a:gridCol w="2286000"/>
                <a:gridCol w="1981080"/>
                <a:gridCol w="2362320"/>
              </a:tblGrid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cubation      peri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u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mpto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mon   foo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-6 hou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ph aureus (enterotoxin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ausea, vomitting, diarrhe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k n milk products, ham, poultry, salads, custar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9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cillus cereu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enterotoxin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ausea, vomitting, (emetic form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ied ri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Some common bacterial food poison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28600" y="1295280"/>
          <a:ext cx="8686800" cy="5105520"/>
        </p:xfrm>
        <a:graphic>
          <a:graphicData uri="http://schemas.openxmlformats.org/drawingml/2006/table">
            <a:tbl>
              <a:tblPr/>
              <a:tblGrid>
                <a:gridCol w="1828800"/>
                <a:gridCol w="2514600"/>
                <a:gridCol w="2590920"/>
                <a:gridCol w="17524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cubation peri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us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mpto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mon foo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-16 hou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ostridium perfring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spore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bd.cramps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arrhe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ausea a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mitting -r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at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ultry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egume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av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cillus cereus ( diarrheal form-  preformed n stable toxin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arrhea, abd.pain, nausea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mitting/fever-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Some common bacterial food poison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143000"/>
          <a:ext cx="8229600" cy="4672080"/>
        </p:xfrm>
        <a:graphic>
          <a:graphicData uri="http://schemas.openxmlformats.org/drawingml/2006/table">
            <a:tbl>
              <a:tblPr/>
              <a:tblGrid>
                <a:gridCol w="1828800"/>
                <a:gridCol w="2286000"/>
                <a:gridCol w="2057400"/>
                <a:gridCol w="20574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cubation peri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u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mpto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mon      foo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gt;16 hou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ibrio chole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ice watery stoo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ater and ice creams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a fo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almonella sp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flammatory diarrhe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at , milk n milk products, poult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igella  s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ysent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tato/raw eggs-sal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Early diagnosis and investigation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.Initial assessmen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cases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tail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nical histor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ncluding time of onset , duration of illness , symptoms , h /o travel , recent meals , cooking and refrigeration , details of others with similar complaints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tailed clinic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xamina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tals and degree of dehydration , systemic sig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Lab diagnosi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2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in objectives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To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firm  clinical diagnosi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by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solation of causative agen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rom proper samples 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g . stool , vomitus / gastric aspirate , food specime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) Ensure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oper  identific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diseas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)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termine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ausative agen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f present in food sources with relevant epidemiological markers- eg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iotyping , serotyping , PCR , Phage typing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Collection of food sample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ing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septic techniqu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ppropriate containers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amples be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frigerat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during storage and transpor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ust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rrive lab within 3 days of collec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dequat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ample - minimum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00 gra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tainer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not to be filled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&gt;75%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capac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oper labell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s utmost importan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labelled specimen be placed in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zip lock ba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al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accine carri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with ice packs for transport and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ld chai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aintenance ( avoid freezing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0" y="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eps of outbreak investig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Rounded Rectangle 7"/>
          <p:cNvGrpSpPr/>
          <p:nvPr/>
        </p:nvGrpSpPr>
        <p:grpSpPr>
          <a:xfrm>
            <a:off x="2819520" y="380880"/>
            <a:ext cx="3851280" cy="566640"/>
            <a:chOff x="2819520" y="380880"/>
            <a:chExt cx="3851280" cy="566640"/>
          </a:xfrm>
        </p:grpSpPr>
        <p:pic>
          <p:nvPicPr>
            <p:cNvPr id="117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2819520" y="380880"/>
              <a:ext cx="385128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2901960" y="436320"/>
              <a:ext cx="368928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stablishing existenc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Rounded Rectangle 14"/>
          <p:cNvGrpSpPr/>
          <p:nvPr/>
        </p:nvGrpSpPr>
        <p:grpSpPr>
          <a:xfrm>
            <a:off x="2835360" y="1030320"/>
            <a:ext cx="3851280" cy="566640"/>
            <a:chOff x="2835360" y="1030320"/>
            <a:chExt cx="3851280" cy="566640"/>
          </a:xfrm>
        </p:grpSpPr>
        <p:pic>
          <p:nvPicPr>
            <p:cNvPr id="120" name="Rounded Rectangle 14" descr=""/>
            <p:cNvPicPr/>
            <p:nvPr/>
          </p:nvPicPr>
          <p:blipFill>
            <a:blip r:embed="rId3"/>
            <a:stretch/>
          </p:blipFill>
          <p:spPr>
            <a:xfrm>
              <a:off x="2835360" y="1030320"/>
              <a:ext cx="385128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2917800" y="1089000"/>
              <a:ext cx="368928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      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-ordinatio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Rounded Rectangle 15"/>
          <p:cNvGrpSpPr/>
          <p:nvPr/>
        </p:nvGrpSpPr>
        <p:grpSpPr>
          <a:xfrm>
            <a:off x="2835360" y="1566720"/>
            <a:ext cx="3851280" cy="567000"/>
            <a:chOff x="2835360" y="1566720"/>
            <a:chExt cx="3851280" cy="567000"/>
          </a:xfrm>
        </p:grpSpPr>
        <p:pic>
          <p:nvPicPr>
            <p:cNvPr id="123" name="Rounded Rectangle 15" descr=""/>
            <p:cNvPicPr/>
            <p:nvPr/>
          </p:nvPicPr>
          <p:blipFill>
            <a:blip r:embed="rId4"/>
            <a:stretch/>
          </p:blipFill>
          <p:spPr>
            <a:xfrm>
              <a:off x="2835360" y="1566720"/>
              <a:ext cx="385128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2917800" y="1622520"/>
              <a:ext cx="368928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llectio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ransport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Rounded Rectangle 16"/>
          <p:cNvGrpSpPr/>
          <p:nvPr/>
        </p:nvGrpSpPr>
        <p:grpSpPr>
          <a:xfrm>
            <a:off x="2835360" y="2097000"/>
            <a:ext cx="3851280" cy="567000"/>
            <a:chOff x="2835360" y="2097000"/>
            <a:chExt cx="3851280" cy="567000"/>
          </a:xfrm>
        </p:grpSpPr>
        <p:pic>
          <p:nvPicPr>
            <p:cNvPr id="126" name="Rounded Rectangle 16" descr=""/>
            <p:cNvPicPr/>
            <p:nvPr/>
          </p:nvPicPr>
          <p:blipFill>
            <a:blip r:embed="rId5"/>
            <a:stretch/>
          </p:blipFill>
          <p:spPr>
            <a:xfrm>
              <a:off x="2835360" y="2097000"/>
              <a:ext cx="385128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917800" y="2155680"/>
              <a:ext cx="368928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     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ab test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Rounded Rectangle 17"/>
          <p:cNvGrpSpPr/>
          <p:nvPr/>
        </p:nvGrpSpPr>
        <p:grpSpPr>
          <a:xfrm>
            <a:off x="2809800" y="2706840"/>
            <a:ext cx="4024440" cy="566640"/>
            <a:chOff x="2809800" y="2706840"/>
            <a:chExt cx="4024440" cy="566640"/>
          </a:xfrm>
        </p:grpSpPr>
        <p:pic>
          <p:nvPicPr>
            <p:cNvPr id="129" name="Rounded Rectangle 17" descr=""/>
            <p:cNvPicPr/>
            <p:nvPr/>
          </p:nvPicPr>
          <p:blipFill>
            <a:blip r:embed="rId6"/>
            <a:stretch/>
          </p:blipFill>
          <p:spPr>
            <a:xfrm>
              <a:off x="2809800" y="2706840"/>
              <a:ext cx="402444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917800" y="2765520"/>
              <a:ext cx="368928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ntrol and preventive measur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Rounded Rectangle 18"/>
          <p:cNvGrpSpPr/>
          <p:nvPr/>
        </p:nvGrpSpPr>
        <p:grpSpPr>
          <a:xfrm>
            <a:off x="2809800" y="3316320"/>
            <a:ext cx="3876840" cy="566640"/>
            <a:chOff x="2809800" y="3316320"/>
            <a:chExt cx="3876840" cy="566640"/>
          </a:xfrm>
        </p:grpSpPr>
        <p:pic>
          <p:nvPicPr>
            <p:cNvPr id="132" name="Rounded Rectangle 18" descr=""/>
            <p:cNvPicPr/>
            <p:nvPr/>
          </p:nvPicPr>
          <p:blipFill>
            <a:blip r:embed="rId7"/>
            <a:stretch/>
          </p:blipFill>
          <p:spPr>
            <a:xfrm>
              <a:off x="2809800" y="3316320"/>
              <a:ext cx="387684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917800" y="3375000"/>
              <a:ext cx="368928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finition of cases, populatio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Rounded Rectangle 19"/>
          <p:cNvGrpSpPr/>
          <p:nvPr/>
        </p:nvGrpSpPr>
        <p:grpSpPr>
          <a:xfrm>
            <a:off x="2809800" y="4005360"/>
            <a:ext cx="3876840" cy="566640"/>
            <a:chOff x="2809800" y="4005360"/>
            <a:chExt cx="3876840" cy="566640"/>
          </a:xfrm>
        </p:grpSpPr>
        <p:pic>
          <p:nvPicPr>
            <p:cNvPr id="135" name="Rounded Rectangle 19" descr=""/>
            <p:cNvPicPr/>
            <p:nvPr/>
          </p:nvPicPr>
          <p:blipFill>
            <a:blip r:embed="rId8"/>
            <a:stretch/>
          </p:blipFill>
          <p:spPr>
            <a:xfrm>
              <a:off x="2809800" y="4005360"/>
              <a:ext cx="387684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2917800" y="4060800"/>
              <a:ext cx="368928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scription of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pidemiolog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Rounded Rectangle 20"/>
          <p:cNvGrpSpPr/>
          <p:nvPr/>
        </p:nvGrpSpPr>
        <p:grpSpPr>
          <a:xfrm>
            <a:off x="2835360" y="4614840"/>
            <a:ext cx="3773520" cy="566640"/>
            <a:chOff x="2835360" y="4614840"/>
            <a:chExt cx="3773520" cy="566640"/>
          </a:xfrm>
        </p:grpSpPr>
        <p:pic>
          <p:nvPicPr>
            <p:cNvPr id="138" name="Rounded Rectangle 20" descr=""/>
            <p:cNvPicPr/>
            <p:nvPr/>
          </p:nvPicPr>
          <p:blipFill>
            <a:blip r:embed="rId9"/>
            <a:stretch/>
          </p:blipFill>
          <p:spPr>
            <a:xfrm>
              <a:off x="2835360" y="4614840"/>
              <a:ext cx="37735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2917800" y="4670280"/>
              <a:ext cx="361332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ossibl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ypothes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Rounded Rectangle 21"/>
          <p:cNvGrpSpPr/>
          <p:nvPr/>
        </p:nvGrpSpPr>
        <p:grpSpPr>
          <a:xfrm>
            <a:off x="2835360" y="5224320"/>
            <a:ext cx="3773520" cy="567000"/>
            <a:chOff x="2835360" y="5224320"/>
            <a:chExt cx="3773520" cy="567000"/>
          </a:xfrm>
        </p:grpSpPr>
        <p:pic>
          <p:nvPicPr>
            <p:cNvPr id="141" name="Rounded Rectangle 21" descr=""/>
            <p:cNvPicPr/>
            <p:nvPr/>
          </p:nvPicPr>
          <p:blipFill>
            <a:blip r:embed="rId10"/>
            <a:stretch/>
          </p:blipFill>
          <p:spPr>
            <a:xfrm>
              <a:off x="2835360" y="5224320"/>
              <a:ext cx="37735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2917800" y="5280120"/>
              <a:ext cx="361332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pidemiological stu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Rounded Rectangle 22"/>
          <p:cNvGrpSpPr/>
          <p:nvPr/>
        </p:nvGrpSpPr>
        <p:grpSpPr>
          <a:xfrm>
            <a:off x="2657520" y="5754600"/>
            <a:ext cx="4181400" cy="567000"/>
            <a:chOff x="2657520" y="5754600"/>
            <a:chExt cx="4181400" cy="567000"/>
          </a:xfrm>
        </p:grpSpPr>
        <p:pic>
          <p:nvPicPr>
            <p:cNvPr id="144" name="Rounded Rectangle 22" descr=""/>
            <p:cNvPicPr/>
            <p:nvPr/>
          </p:nvPicPr>
          <p:blipFill>
            <a:blip r:embed="rId11"/>
            <a:stretch/>
          </p:blipFill>
          <p:spPr>
            <a:xfrm>
              <a:off x="2657520" y="5754600"/>
              <a:ext cx="418140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765520" y="5813280"/>
              <a:ext cx="399420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nalysis of dat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erpret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Rounded Rectangle 23"/>
          <p:cNvGrpSpPr/>
          <p:nvPr/>
        </p:nvGrpSpPr>
        <p:grpSpPr>
          <a:xfrm>
            <a:off x="2835360" y="6364440"/>
            <a:ext cx="3851280" cy="566640"/>
            <a:chOff x="2835360" y="6364440"/>
            <a:chExt cx="3851280" cy="566640"/>
          </a:xfrm>
        </p:grpSpPr>
        <p:pic>
          <p:nvPicPr>
            <p:cNvPr id="147" name="Rounded Rectangle 23" descr=""/>
            <p:cNvPicPr/>
            <p:nvPr/>
          </p:nvPicPr>
          <p:blipFill>
            <a:blip r:embed="rId12"/>
            <a:stretch/>
          </p:blipFill>
          <p:spPr>
            <a:xfrm>
              <a:off x="2835360" y="6364440"/>
              <a:ext cx="385128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2917800" y="6423120"/>
              <a:ext cx="368928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port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Down Arrow 24"/>
          <p:cNvGrpSpPr/>
          <p:nvPr/>
        </p:nvGrpSpPr>
        <p:grpSpPr>
          <a:xfrm>
            <a:off x="4511520" y="878040"/>
            <a:ext cx="603360" cy="261720"/>
            <a:chOff x="4511520" y="878040"/>
            <a:chExt cx="603360" cy="261720"/>
          </a:xfrm>
        </p:grpSpPr>
        <p:pic>
          <p:nvPicPr>
            <p:cNvPr id="150" name="Down Arrow 24" descr=""/>
            <p:cNvPicPr/>
            <p:nvPr/>
          </p:nvPicPr>
          <p:blipFill>
            <a:blip r:embed="rId13"/>
            <a:stretch/>
          </p:blipFill>
          <p:spPr>
            <a:xfrm>
              <a:off x="4511520" y="878040"/>
              <a:ext cx="603360" cy="2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692600" y="914400"/>
              <a:ext cx="2430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Down Arrow 25"/>
          <p:cNvGrpSpPr/>
          <p:nvPr/>
        </p:nvGrpSpPr>
        <p:grpSpPr>
          <a:xfrm>
            <a:off x="4511520" y="1414440"/>
            <a:ext cx="603360" cy="335160"/>
            <a:chOff x="4511520" y="1414440"/>
            <a:chExt cx="603360" cy="335160"/>
          </a:xfrm>
        </p:grpSpPr>
        <p:pic>
          <p:nvPicPr>
            <p:cNvPr id="153" name="Down Arrow 25" descr=""/>
            <p:cNvPicPr/>
            <p:nvPr/>
          </p:nvPicPr>
          <p:blipFill>
            <a:blip r:embed="rId14"/>
            <a:stretch/>
          </p:blipFill>
          <p:spPr>
            <a:xfrm>
              <a:off x="4511520" y="1414440"/>
              <a:ext cx="60336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4692600" y="1447920"/>
              <a:ext cx="24300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Down Arrow 26"/>
          <p:cNvGrpSpPr/>
          <p:nvPr/>
        </p:nvGrpSpPr>
        <p:grpSpPr>
          <a:xfrm>
            <a:off x="4511520" y="1871640"/>
            <a:ext cx="603360" cy="335160"/>
            <a:chOff x="4511520" y="1871640"/>
            <a:chExt cx="603360" cy="335160"/>
          </a:xfrm>
        </p:grpSpPr>
        <p:pic>
          <p:nvPicPr>
            <p:cNvPr id="156" name="Down Arrow 26" descr=""/>
            <p:cNvPicPr/>
            <p:nvPr/>
          </p:nvPicPr>
          <p:blipFill>
            <a:blip r:embed="rId15"/>
            <a:stretch/>
          </p:blipFill>
          <p:spPr>
            <a:xfrm>
              <a:off x="4511520" y="1871640"/>
              <a:ext cx="60336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692600" y="1905120"/>
              <a:ext cx="24300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Down Arrow 27"/>
          <p:cNvGrpSpPr/>
          <p:nvPr/>
        </p:nvGrpSpPr>
        <p:grpSpPr>
          <a:xfrm>
            <a:off x="4511520" y="2481120"/>
            <a:ext cx="603360" cy="335160"/>
            <a:chOff x="4511520" y="2481120"/>
            <a:chExt cx="603360" cy="335160"/>
          </a:xfrm>
        </p:grpSpPr>
        <p:pic>
          <p:nvPicPr>
            <p:cNvPr id="159" name="Down Arrow 27" descr=""/>
            <p:cNvPicPr/>
            <p:nvPr/>
          </p:nvPicPr>
          <p:blipFill>
            <a:blip r:embed="rId16"/>
            <a:stretch/>
          </p:blipFill>
          <p:spPr>
            <a:xfrm>
              <a:off x="4511520" y="2481120"/>
              <a:ext cx="60336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4692600" y="2514600"/>
              <a:ext cx="24300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Down Arrow 28"/>
          <p:cNvGrpSpPr/>
          <p:nvPr/>
        </p:nvGrpSpPr>
        <p:grpSpPr>
          <a:xfrm>
            <a:off x="4438800" y="3090960"/>
            <a:ext cx="596880" cy="334800"/>
            <a:chOff x="4438800" y="3090960"/>
            <a:chExt cx="596880" cy="334800"/>
          </a:xfrm>
        </p:grpSpPr>
        <p:pic>
          <p:nvPicPr>
            <p:cNvPr id="162" name="Down Arrow 28" descr=""/>
            <p:cNvPicPr/>
            <p:nvPr/>
          </p:nvPicPr>
          <p:blipFill>
            <a:blip r:embed="rId17"/>
            <a:stretch/>
          </p:blipFill>
          <p:spPr>
            <a:xfrm>
              <a:off x="4438800" y="3090960"/>
              <a:ext cx="59688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4616280" y="3124080"/>
              <a:ext cx="24300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Down Arrow 29"/>
          <p:cNvGrpSpPr/>
          <p:nvPr/>
        </p:nvGrpSpPr>
        <p:grpSpPr>
          <a:xfrm>
            <a:off x="4438800" y="3773520"/>
            <a:ext cx="596880" cy="341280"/>
            <a:chOff x="4438800" y="3773520"/>
            <a:chExt cx="596880" cy="341280"/>
          </a:xfrm>
        </p:grpSpPr>
        <p:pic>
          <p:nvPicPr>
            <p:cNvPr id="165" name="Down Arrow 29" descr=""/>
            <p:cNvPicPr/>
            <p:nvPr/>
          </p:nvPicPr>
          <p:blipFill>
            <a:blip r:embed="rId18"/>
            <a:stretch/>
          </p:blipFill>
          <p:spPr>
            <a:xfrm>
              <a:off x="4438800" y="3773520"/>
              <a:ext cx="59688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4616280" y="3809880"/>
              <a:ext cx="24300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Down Arrow 30"/>
          <p:cNvGrpSpPr/>
          <p:nvPr/>
        </p:nvGrpSpPr>
        <p:grpSpPr>
          <a:xfrm>
            <a:off x="4438800" y="4383000"/>
            <a:ext cx="596880" cy="341280"/>
            <a:chOff x="4438800" y="4383000"/>
            <a:chExt cx="596880" cy="341280"/>
          </a:xfrm>
        </p:grpSpPr>
        <p:pic>
          <p:nvPicPr>
            <p:cNvPr id="168" name="Down Arrow 30" descr=""/>
            <p:cNvPicPr/>
            <p:nvPr/>
          </p:nvPicPr>
          <p:blipFill>
            <a:blip r:embed="rId19"/>
            <a:stretch/>
          </p:blipFill>
          <p:spPr>
            <a:xfrm>
              <a:off x="4438800" y="4383000"/>
              <a:ext cx="59688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616280" y="4419720"/>
              <a:ext cx="24300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Down Arrow 31"/>
          <p:cNvGrpSpPr/>
          <p:nvPr/>
        </p:nvGrpSpPr>
        <p:grpSpPr>
          <a:xfrm>
            <a:off x="4438800" y="4992840"/>
            <a:ext cx="596880" cy="341280"/>
            <a:chOff x="4438800" y="4992840"/>
            <a:chExt cx="596880" cy="341280"/>
          </a:xfrm>
        </p:grpSpPr>
        <p:pic>
          <p:nvPicPr>
            <p:cNvPr id="171" name="Down Arrow 31" descr=""/>
            <p:cNvPicPr/>
            <p:nvPr/>
          </p:nvPicPr>
          <p:blipFill>
            <a:blip r:embed="rId20"/>
            <a:stretch/>
          </p:blipFill>
          <p:spPr>
            <a:xfrm>
              <a:off x="4438800" y="4992840"/>
              <a:ext cx="59688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4616280" y="5029200"/>
              <a:ext cx="24300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Down Arrow 32"/>
          <p:cNvGrpSpPr/>
          <p:nvPr/>
        </p:nvGrpSpPr>
        <p:grpSpPr>
          <a:xfrm>
            <a:off x="4359240" y="5602320"/>
            <a:ext cx="603360" cy="341280"/>
            <a:chOff x="4359240" y="5602320"/>
            <a:chExt cx="603360" cy="341280"/>
          </a:xfrm>
        </p:grpSpPr>
        <p:pic>
          <p:nvPicPr>
            <p:cNvPr id="174" name="Down Arrow 32" descr=""/>
            <p:cNvPicPr/>
            <p:nvPr/>
          </p:nvPicPr>
          <p:blipFill>
            <a:blip r:embed="rId21"/>
            <a:stretch/>
          </p:blipFill>
          <p:spPr>
            <a:xfrm>
              <a:off x="4359240" y="5602320"/>
              <a:ext cx="6033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4540320" y="5638680"/>
              <a:ext cx="24264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Down Arrow 33"/>
          <p:cNvGrpSpPr/>
          <p:nvPr/>
        </p:nvGrpSpPr>
        <p:grpSpPr>
          <a:xfrm>
            <a:off x="4359240" y="6211800"/>
            <a:ext cx="603360" cy="341280"/>
            <a:chOff x="4359240" y="6211800"/>
            <a:chExt cx="603360" cy="341280"/>
          </a:xfrm>
        </p:grpSpPr>
        <p:pic>
          <p:nvPicPr>
            <p:cNvPr id="177" name="Down Arrow 33" descr=""/>
            <p:cNvPicPr/>
            <p:nvPr/>
          </p:nvPicPr>
          <p:blipFill>
            <a:blip r:embed="rId22"/>
            <a:stretch/>
          </p:blipFill>
          <p:spPr>
            <a:xfrm>
              <a:off x="4359240" y="6211800"/>
              <a:ext cx="6033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540320" y="6248520"/>
              <a:ext cx="24264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Treatment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Initial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 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/t -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ssessmen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vers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hydra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T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/ IV Fluids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Cause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pecifi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treatment if any- eg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helat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gents in case of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sticid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oiso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s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ntibiotic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an be considered if bacterial cause is identifi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eps of outbreak investig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stablishing existenc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outbreak(detailed baseline epidemiological information)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-ordin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with key personnel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llec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ranspor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clinical specimens and food samples for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ab testing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lementation of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trol and preventive measures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finition of cases,popul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t risk and finding cases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scription of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pidemiology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ment of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ossib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ypotheses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pidemiological stud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o evaluate hypotheses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nalysis of dat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terpretation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port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indings of outbreak investig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ood borne Diseas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1920" y="144756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.Pathogenesis and Transmis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Important  foodborne pathogens/toxins/chemic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Investigations and Lab diagno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.Treatment and Preven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Prevention in community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per handwashing and personal hygi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per storage (refrigera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od saftey education – community and food handl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vironmental measures - Discourage sewage farming for growing fruits and vegeta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Preventi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azard Analysis and Critical Control Point (HACCP) -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stematic preventive approach to food safe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dresses physical , chemical and biological hazards as means of prevention rather than finished product inspe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od industry - Food safety hazards identified at all stages of food production and preparation processes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key action taken at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ritical Control Points (CCP 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Principles of Hazard Analysis and Critical Control Point ( HACCP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alyse hazard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dentify critical control point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stablish preventive measures with critical limits for each CCP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stablish procedures to monitor CCP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stablish corrective actions when monitoring shows that critical limit has not met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stablish procedures to verify that system is working properly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stablish effective record keeping for document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Safety Regulations 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vention of Food Adulteration Act , 1954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 Ensure pure  and  wholesome food and to protect from fradulent practi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endments -1964,1976,198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se of proven adulteration –Minimum imprisonment of 6 months and minimum fine of Rs 1000 envisag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ievous Hurt-(320 IPC)- Death or such harm can be punished upto Life imprisonment and fine not &lt;Rs 5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od Standards- Codex Alimentarius , Agmark standard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reau of Indian Standa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ional Nutrition Policy -1993- Food Securit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Five keys to Safer food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. Keep Clea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sh hands before handling food and often du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pa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sh hands after going to toil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sh n sanitise all surfaces n equipment for food preparation-protect kitchen from insects , pe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. Separate raw and cook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o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parate raw meat , poultry n seafood from other foo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separate utensils for handling raw foo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ore food in containers to avoid contact between raw and cooked foo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Five Keys to Safer Food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4582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 Cook Thoroughly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p. Meat , poultry , eggs and Seafo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ing soups n stews to boiling (ensure&gt;70degree temp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heat cooked food thoroughl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 Keep food at safe temperature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nt leave cooked food at room temp.&gt;2 hou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mpt refrigeration of cooked n perishable fo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ep cooked food piping hot(&gt;60 de.) prior  to ser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n’t store food too long even in refrigera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n’t thaw frozen food at room tempera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Five keys to safer food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. Use safe water and raw materials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safe water or treat to make it saf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lect fresh and wholesome frui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oose foods processed for safety - pasteurised mil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sh fruits n vegetables if eaten ra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n’t use food beyond expiry d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Reference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CD Alert – December 2009, vol.13:No.4 – Food Borne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eases, page no. 1-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Parks Textbook of PSM , Twentieth Edition, Intestin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ections –Food Poisoning , page no. 210-212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Internet- www.nicd.nic.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-419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ANK    YOU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1.Introduct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5345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od borne diseases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toxicatio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fectio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 Covers illnesses acquired through consumption of contaminated food-food poiso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od bor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isease outbreaks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currence of 2 or more cases of similar illness resulting from ingestion of common foo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observed number of paticular disease exceeds expected numb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1.Introduction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lobal burden-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ig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orbidit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orta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fectious  diarrhoea- 3 to 5 billion cas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.8 million death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nuall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DC- 76 million cas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food borne diseases in US annually with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ppx.5000 death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dia- Integrated disease surveillance Project (IDSP) 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od poisoning outbreak reporting increased to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ore than double in 2009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rom 2008 (120 in 2009 and 50 in 2008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Food borne infections vs intoxicatio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449604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          </a:t>
            </a:r>
            <a:r>
              <a:rPr b="1" lang="en-US" sz="2800" spc="-1" strike="noStrike" u="sng">
                <a:solidFill>
                  <a:srgbClr val="663300"/>
                </a:solidFill>
                <a:uFillTx/>
                <a:latin typeface="Tahoma"/>
              </a:rPr>
              <a:t>Inf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acterial / Viral / parasi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Invade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and  or  </a:t>
            </a: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multiply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in lining  of  intest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Incubation period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             hours  to  day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S/s –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iarrhoea , nausea, vomitting , abdominal cramps, fev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Communicable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spreads from person to pers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Factors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inadequate cooking, cross contamination , poor personal hygiene , bare hand conta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0" y="685800"/>
            <a:ext cx="45720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          </a:t>
            </a:r>
            <a:r>
              <a:rPr b="1" lang="en-US" sz="2000" spc="-1" strike="noStrike" u="sng">
                <a:solidFill>
                  <a:srgbClr val="663300"/>
                </a:solidFill>
                <a:uFillTx/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663300"/>
                </a:solidFill>
                <a:uFillTx/>
                <a:latin typeface="Tahoma"/>
              </a:rPr>
              <a:t>Intox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oxins ( natural / preformed bacterial / chemica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No invasion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or  multiplic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Incubation period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inutes to hou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S/s –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Vomitting , nausea, diarrhea , diplopia, weakness, resp. failure , numbness, sensory/motor dysfun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Not communic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Factors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inadequate cooking , improper handling temperatu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Epidemiology in Indi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981080"/>
          <a:ext cx="8458200" cy="4419720"/>
        </p:xfrm>
        <a:graphic>
          <a:graphicData uri="http://schemas.openxmlformats.org/drawingml/2006/table">
            <a:tbl>
              <a:tblPr/>
              <a:tblGrid>
                <a:gridCol w="1828800"/>
                <a:gridCol w="1066680"/>
                <a:gridCol w="1676520"/>
                <a:gridCol w="1752480"/>
                <a:gridCol w="2133720"/>
              </a:tblGrid>
              <a:tr h="93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g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g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opl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ffec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mplicated Fo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almonella paratyphi 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avatm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getarian fo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ostridium butyricu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ujarat-   residential scho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4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ud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vu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Gram flour crisp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almonell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teritid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rmed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orce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sonn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ozen fow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Epidemiology in Indi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1066680"/>
          <a:ext cx="8534520" cy="5537160"/>
        </p:xfrm>
        <a:graphic>
          <a:graphicData uri="http://schemas.openxmlformats.org/drawingml/2006/table">
            <a:tbl>
              <a:tblPr/>
              <a:tblGrid>
                <a:gridCol w="1828800"/>
                <a:gridCol w="1143000"/>
                <a:gridCol w="1600200"/>
                <a:gridCol w="1371600"/>
                <a:gridCol w="259092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g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g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opl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ffec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mplicated Fo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rwalk like  Vir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lhi Hospi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urs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alad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andwich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ph. Aure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gt;100 children n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ul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halla ( fried potato ball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almonella welteverd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d  We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8-0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ngalo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d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ick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s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Some important food-borne pathogens, toxins and chemicals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. Bacteria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Bacillus cereus , Brucella , Campylobacter, Clostridium sp , E.coli, Salmonella sp , Listeria , Staph aureus , Vibrio cholera and V.parahemolyticu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. Viruse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Hepatitis A and E , Rotavirus , Norvovir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 Protozoa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– Cryptosporidium , Cyclospora , Entamoeba , Giardia , T. gond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 Trematodes , Cestodes  and  Nemato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Food borne pathogens-toxins and chemical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oxin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marine biotoxins , tetrodotoxin (puffer fish), pyrrolizidine alka (Endemic ascites) , mushroom toxins , shellfish toxins , mycotoxins-(Aflatoxins ,Ergot and Fusarium), plant intoxicants , BOAA (Lathyris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hemical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pesticides (OPP,sb) , radionuclides , nitrites (food preservatives) toxic metals - cd, cu, hg, pb, sn, fluoride , MS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7T03:29:54Z</dcterms:created>
  <dc:creator>com</dc:creator>
  <dc:description/>
  <dc:language>en-US</dc:language>
  <cp:lastModifiedBy>com</cp:lastModifiedBy>
  <dcterms:modified xsi:type="dcterms:W3CDTF">2010-06-29T08:26:35Z</dcterms:modified>
  <cp:revision>102</cp:revision>
  <dc:subject/>
  <dc:title>Food borne Diseases</dc:title>
</cp:coreProperties>
</file>